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57A-88E4-405B-99DE-7E54B01E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FFB-504B-4B3B-8DED-63B59084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C4F-F3D6-45E4-82FB-53C67E48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6D3-BAFE-4892-9467-93532591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96CE-98EA-4649-B9BE-DA1146C5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A79-8026-4133-A7B6-5313B9C5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1E2A-9586-4256-BF2A-738A99A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B0AB-3378-4687-BB11-E606DF00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12C8-D678-4FC8-872F-495A47A1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CAF1-5BB8-48FE-836F-911305B2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2C21-1187-41D3-8F8D-2D8D2BF5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1D47-92C9-40DD-BFC2-8B3677FE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1646-80B8-4CC2-8285-C554272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779F-EC50-474D-855A-59E51B1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F925-937B-4114-ACE5-482C85A0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9C6C-EE26-41E2-9DAE-A2CEC9E2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DA56-7BD2-4B92-B3B0-0C2794FA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4DC-0685-4E28-AD66-59304A10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0B5-6A41-4659-BE6C-DFA77965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C04-4B39-453C-8861-CCDCBC69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6A0-4931-4DC4-8C2D-73D53093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AF3-0E0D-4EF3-8548-AB3AF8E4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7F5-6B7D-48A9-8908-EB75CC8D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1A2-BB7E-414D-BF35-5B7BF44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087-A24A-4C4F-8F56-D6292427C4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2BDC-C014-4B38-A53F-AE77F17683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4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января 200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одготовка высококвалифицированных кадров (аспирантура) в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484280"/>
          <a:ext cx="8785440" cy="660708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92360"/>
                <a:gridCol w="503280"/>
                <a:gridCol w="647640"/>
              </a:tblGrid>
              <a:tr h="45900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 аспи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 т.ч. аспирантов – граждан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425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аспределение аспирантов, обучающихся за счет средств ФБ по отраслям науки и специальностям в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268280"/>
          <a:ext cx="8802720" cy="586764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науки о Зем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одготовка высококвалифицированных кадров (докторантура) в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341360"/>
          <a:ext cx="8229600" cy="510228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936360"/>
                <a:gridCol w="126216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Эффективность деятельности диссертационных советов в 200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773360"/>
          <a:ext cx="8713800" cy="408456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здательская деятельность в 20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50920" y="1125360"/>
          <a:ext cx="5040360" cy="558828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 из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аспределение тем по кол-ву и объему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с 2002 по 200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413000"/>
          <a:ext cx="8580240" cy="4771800"/>
        </p:xfrm>
        <a:graphic>
          <a:graphicData uri="http://schemas.openxmlformats.org/drawingml/2006/table">
            <a:tbl>
              <a:tblPr/>
              <a:tblGrid>
                <a:gridCol w="1512720"/>
                <a:gridCol w="504720"/>
                <a:gridCol w="935280"/>
                <a:gridCol w="504720"/>
                <a:gridCol w="934920"/>
                <a:gridCol w="505080"/>
                <a:gridCol w="874440"/>
                <a:gridCol w="493920"/>
                <a:gridCol w="934920"/>
                <a:gridCol w="505080"/>
                <a:gridCol w="874440"/>
              </a:tblGrid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агентство по обр.(Мин.об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 агентство по науке и инн.(Роснау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7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Распределение тем по факультетам за период с 2002 по 20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00280"/>
          <a:ext cx="8605800" cy="5159160"/>
        </p:xfrm>
        <a:graphic>
          <a:graphicData uri="http://schemas.openxmlformats.org/drawingml/2006/table">
            <a:tbl>
              <a:tblPr/>
              <a:tblGrid>
                <a:gridCol w="1476360"/>
                <a:gridCol w="468360"/>
                <a:gridCol w="900000"/>
                <a:gridCol w="503280"/>
                <a:gridCol w="936720"/>
                <a:gridCol w="504720"/>
                <a:gridCol w="934920"/>
                <a:gridCol w="504720"/>
                <a:gridCol w="935280"/>
                <a:gridCol w="504720"/>
                <a:gridCol w="936720"/>
              </a:tblGrid>
              <a:tr h="360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2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6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. На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Пленарное засе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спективы инновационного развития РГГМ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кт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.Н. Кар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ная деятельность университета в 200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ректор по НР,   В.Н. Воробь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румин Г.Т. (профессор) –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ценка состояния Невской губы по гидрохимическим и биохимическим показа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урзенева Е.В. (доцент кафедры метеопрогнозо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гностическая модель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RLA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 ее реализация в научно-образовательном процес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лин Л.Н. (профессор), Дикинис А.В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временные проблемы экологической безопасности в стратегии долгосрочного развития Санкт-Петербур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кан А.В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ниторинг трансграничных водных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скид П.П. (профессор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построения регионального экологического мониторин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ердитова Н.Е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кономика природопользования: эколого-экономический аспект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Итоговая сессия Ученого совета РГГ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 Unicode MS"/>
              </a:rPr>
              <a:t>Научная деятельность университета в 200</a:t>
            </a:r>
            <a:r>
              <a:rPr b="1" lang="en-US" sz="3600" spc="-1" strike="noStrike">
                <a:solidFill>
                  <a:srgbClr val="ff66ff"/>
                </a:solidFill>
                <a:latin typeface="Arial Unicode MS"/>
              </a:rPr>
              <a:t>6</a:t>
            </a:r>
            <a:r>
              <a:rPr b="1" lang="ru-RU" sz="3600" spc="-1" strike="noStrike">
                <a:solidFill>
                  <a:srgbClr val="ff66ff"/>
                </a:solidFill>
                <a:latin typeface="Arial Unicode MS"/>
              </a:rPr>
              <a:t>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24000" y="6093000"/>
          <a:ext cx="485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93000"/>
                    <a:ext cx="485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ные научные направления (научные школы)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052640"/>
          <a:ext cx="8232840" cy="5640120"/>
        </p:xfrm>
        <a:graphic>
          <a:graphicData uri="http://schemas.openxmlformats.org/drawingml/2006/table">
            <a:tbl>
              <a:tblPr/>
              <a:tblGrid>
                <a:gridCol w="441000"/>
                <a:gridCol w="6164640"/>
                <a:gridCol w="1411920"/>
                <a:gridCol w="216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е про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Arial"/>
              </a:rPr>
              <a:t>Участие вуза в выполнении                   федерально-целевых и научно-технических програм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1125360"/>
          <a:ext cx="7129440" cy="6037560"/>
        </p:xfrm>
        <a:graphic>
          <a:graphicData uri="http://schemas.openxmlformats.org/drawingml/2006/table">
            <a:tbl>
              <a:tblPr/>
              <a:tblGrid>
                <a:gridCol w="401760"/>
                <a:gridCol w="3198600"/>
                <a:gridCol w="1513080"/>
                <a:gridCol w="20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Ц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ировой океа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брна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44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лан В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41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т президента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е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1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водные сведения о выполнении НИР в 200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197000"/>
          <a:ext cx="8302680" cy="521496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едеральн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36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9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е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а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 В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8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ведения по НИР за 200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год                 (по факультетам РГГ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557360"/>
          <a:ext cx="8834400" cy="4975200"/>
        </p:xfrm>
        <a:graphic>
          <a:graphicData uri="http://schemas.openxmlformats.org/drawingml/2006/table">
            <a:tbl>
              <a:tblPr/>
              <a:tblGrid>
                <a:gridCol w="1473120"/>
                <a:gridCol w="254160"/>
                <a:gridCol w="718920"/>
                <a:gridCol w="217440"/>
                <a:gridCol w="648000"/>
                <a:gridCol w="287280"/>
                <a:gridCol w="647640"/>
                <a:gridCol w="217440"/>
                <a:gridCol w="574560"/>
                <a:gridCol w="289080"/>
                <a:gridCol w="684000"/>
                <a:gridCol w="179640"/>
                <a:gridCol w="649080"/>
                <a:gridCol w="287640"/>
                <a:gridCol w="554040"/>
                <a:gridCol w="288720"/>
                <a:gridCol w="86364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4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6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15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ведения по НИР за 200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год (по факультетам, кафедрам РГГ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476280"/>
          <a:ext cx="8424720" cy="7219800"/>
        </p:xfrm>
        <a:graphic>
          <a:graphicData uri="http://schemas.openxmlformats.org/drawingml/2006/table">
            <a:tbl>
              <a:tblPr/>
              <a:tblGrid>
                <a:gridCol w="1079280"/>
                <a:gridCol w="3240000"/>
                <a:gridCol w="1657440"/>
                <a:gridCol w="2448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7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2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8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7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ой эколог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.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оц-гум. 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Участие в выставках и конференциях в 20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и, всего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том числе международные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онаты, представленные на выставках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еренции –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числе международные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 базе вуза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мии, дипломы, награды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8T10:16:42Z</dcterms:modified>
  <cp:revision>263</cp:revision>
  <dc:subject/>
  <dc:title>Итоговая сессия Ученого совета РГГМУ</dc:title>
</cp:coreProperties>
</file>